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788D-AC60-4D62-BD4D-2C2BFAA9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3068-4F04-4CB3-AF78-08AEBF53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89B1-D995-4553-96FE-8546FCBF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22E-51EA-4C80-B59A-EB27F38F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E625-0607-49FF-B37A-037DD7E1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77B-7DEB-4445-ACDF-F9A5C6E5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B88-0811-485D-BA0C-0BA74A50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566-A86D-4496-884F-ACBF4218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E84C-15E9-4366-9214-C613210C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D95F-BFF2-4133-A2A7-C4E83C37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F341-38AB-4242-B47F-D5086473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3977-0551-4370-B954-89F7A7FC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AD3C-9E9C-4F59-BFD8-4265FA68C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LLEND  50TH                                      I.B.M.                                                I.B.M.                                     INNELLAN                                             INNELLAN                                   INNELLAN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NELLAN  150TH                                       INVERKIP                              INVERKIP  100TH                              KILMACOLM                                  KINGARTH                      KIRN  &amp;  HUNTERS  QUAY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0520" y="0"/>
            <a:ext cx="176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13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N                                                       KIRN                                            KIRN                                          KIRN  100TH                                 LADY  ALICE                                LADY  ALICE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310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DY  ALICE  50TH                          LADY  ALICE  75TH                              PARKLEA                                 PARKLEA  50TH                          PORT  GLASGOW                           PORT  GLASGOW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21600" y="333360"/>
            <a:ext cx="85896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31800" y="1989000"/>
            <a:ext cx="1116000" cy="109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289240" y="2060640"/>
            <a:ext cx="107928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097600" y="191628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608880" y="206064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8193240" y="2349360"/>
            <a:ext cx="841320" cy="814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31800" y="3357720"/>
            <a:ext cx="1206360" cy="1376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657600" y="3500280"/>
            <a:ext cx="1133640" cy="126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2289240" y="3357720"/>
            <a:ext cx="1133280" cy="1412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5097600" y="3357720"/>
            <a:ext cx="1261800" cy="1361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537240" y="357336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8048520" y="364500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2216160" y="5300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631800" y="5084640"/>
            <a:ext cx="1133640" cy="1362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3657600" y="537372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5168880" y="5373720"/>
            <a:ext cx="104292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6608880" y="5300640"/>
            <a:ext cx="1042920" cy="115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8048520" y="5229360"/>
            <a:ext cx="1024200" cy="117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6681960" y="260280"/>
            <a:ext cx="91440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4881600" y="115920"/>
            <a:ext cx="1206360" cy="1316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3657600" y="260280"/>
            <a:ext cx="98748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3800520" y="2133720"/>
            <a:ext cx="911160" cy="1027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704880" y="549360"/>
            <a:ext cx="1096920" cy="826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2216160" y="189000"/>
            <a:ext cx="99864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09:38:52Z</dcterms:created>
  <dc:creator>JOHN YOUNG</dc:creator>
  <dc:description/>
  <dc:language>en-US</dc:language>
  <cp:lastModifiedBy>JY</cp:lastModifiedBy>
  <dcterms:modified xsi:type="dcterms:W3CDTF">2007-10-19T14:04:52Z</dcterms:modified>
  <cp:revision>33</cp:revision>
  <dc:subject/>
  <dc:title>No Slide Title</dc:title>
</cp:coreProperties>
</file>